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DBA-0420-4699-A232-15123F70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BDD-1EC7-4F54-B747-E5630507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9FA-5D7B-4A3B-A725-DE866681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CB1-6584-4F93-9A43-DFDC963F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0980-F1F0-44BC-93B0-F4355980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E321-2094-4848-967B-61C333A9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D3F4-1230-4F35-9379-569DDA0B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98D2-260B-477F-8F96-1E6A977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184D-607B-45E6-AB2B-A2A588FA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2AE9-3BC0-4815-A75D-8A817C88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346-239B-481E-8A22-6435CAE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24C-FBBD-4938-A1A7-4AEF6CCE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02C-D331-4F49-B247-7B006C0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5B50-0099-4D9A-A4CA-8042BE4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0FD0-2090-40A8-8358-316F2AD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9226-AADD-4B48-AB81-0B4AAB36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1AE-AE4A-43D5-8BD5-6BBEFE21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7D2-D8D4-46AA-BE7F-3AF71B0B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32B-47FC-43CE-BA19-5AECE0FE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AB3-F391-4A97-98B5-CD845A90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0B3-6DF9-45CE-AD8F-70D7551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3A6-F3FB-483D-8EF0-3903D04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4FB-6002-4B9B-89FE-DCAE050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9DC-F91D-47DC-9BA8-D037B52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770-3C84-4928-8282-39E19633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9C0-96E9-4656-B1C3-7874002C9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28440"/>
            <a:ext cx="833616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ositive Pressure Ventilation: The Basic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amita Kuruvilla, M.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ritical Care Cou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Assist Control (AC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initial mode in ou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fill out vent order for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l Volume (usually 10 ml/kg ideal body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 Rate (usually 14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O2 (usually 100 % at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P (positive end expiratory pressure, usually 5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breath receives the same tidal volum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gardless of preset r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breaths get the sam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End-Expiratory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stent: minimum pressure used to “stent” the airway to prevent alveolar collapse/atelac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P = ____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st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11" descr="AC Scalar"/>
          <p:cNvPicPr/>
          <p:nvPr/>
        </p:nvPicPr>
        <p:blipFill>
          <a:blip r:embed="rId1"/>
          <a:stretch/>
        </p:blipFill>
        <p:spPr>
          <a:xfrm>
            <a:off x="2643120" y="1981080"/>
            <a:ext cx="483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2 – 68 yo M HD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is still intubated and on A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=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o open eyes intermit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55/28/6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, he’s overbreathing the vent; his rate is 40.  Do we sedate him mo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Synchronized Intermittent Mandatory Ventilation (SIMV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tidal volume, RR, FiO2, PEEP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Support (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ilator breaths receive full tidal volu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 to the se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patient breaths do not get the full tida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breaths get PEEP +/- pressu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sure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in IMV and 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a pressure above the PEEP used to provide additional inspirat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ary from 0-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9" descr="SIMV + PS + PEEP"/>
          <p:cNvPicPr/>
          <p:nvPr/>
        </p:nvPicPr>
        <p:blipFill>
          <a:blip r:embed="rId1"/>
          <a:stretch/>
        </p:blipFill>
        <p:spPr>
          <a:xfrm>
            <a:off x="1981080" y="1600200"/>
            <a:ext cx="5776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3 – 68 yo M HD#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s still on SI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alert on his daily awaken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is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is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n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taibi, G. Ventilator Graphic Waveforms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 and PS/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15" descr="CPAP Scalar"/>
          <p:cNvPicPr/>
          <p:nvPr/>
        </p:nvPicPr>
        <p:blipFill>
          <a:blip r:embed="rId1"/>
          <a:stretch/>
        </p:blipFill>
        <p:spPr>
          <a:xfrm>
            <a:off x="914400" y="1295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PS + CPAP Scalar"/>
          <p:cNvPicPr/>
          <p:nvPr/>
        </p:nvPicPr>
        <p:blipFill>
          <a:blip r:embed="rId2"/>
          <a:stretch/>
        </p:blipFill>
        <p:spPr>
          <a:xfrm>
            <a:off x="4876920" y="3048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now…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concept of positive pressur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most-commonly used ventilator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atient case and appropriate mod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on the vent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Vent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non-invasive venti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facial mask with bagging, BiPAP or C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vasiv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via endotracheal tube or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 of PP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: Andreas Vesa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ning must be attempted in the trunk of the trachea, into which a tube of reed or cane should be put; you will then blow into this, so that the lung may rise again…and the heart becomes stro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-1950s: Polio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 outbreak overwhelmed iro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: First PPV machine in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gative Pressure = 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ormal breathing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ega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sucked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is sucked in to return to the he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creased venous return / increased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= Ab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pushed in by bag/mach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osi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lood can’t get sucked in to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ontractility: pressure squeezes heart during sy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oad effect predominates if hypovol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ing on to the Ventilator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Content Placeholder 7" descr="Puritan Bennet vent 840.jpg"/>
          <p:cNvPicPr/>
          <p:nvPr/>
        </p:nvPicPr>
        <p:blipFill>
          <a:blip r:embed="rId1"/>
          <a:stretch/>
        </p:blipFill>
        <p:spPr>
          <a:xfrm>
            <a:off x="2035080" y="1501920"/>
            <a:ext cx="55850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ntilator Mo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based Ventilator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: Assis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V: Synchronized Intermittent Mandatory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/P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1 – 68 yo M COPD in 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D “Triage”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intub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2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steroid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: RR 40, chest “clear”, falling asleep but can do 1 word answers when aro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25/90/&lt;48/35 on 4L n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6:30:21Z</dcterms:created>
  <dc:creator>HCMARTINEZ</dc:creator>
  <dc:description/>
  <dc:language>en-US</dc:language>
  <cp:lastModifiedBy>HCMARTINEZ</cp:lastModifiedBy>
  <dcterms:modified xsi:type="dcterms:W3CDTF">2009-06-04T23:30:47Z</dcterms:modified>
  <cp:revision>17</cp:revision>
  <dc:subject/>
  <dc:title>Positive Pressure Ventilation: The Basics</dc:title>
</cp:coreProperties>
</file>